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1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D1D-91C3-4614-B32C-20ECEBEB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06-001E-4336-9C11-E9637AF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A04-D9A1-4C88-8304-C452A39F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592-9033-4AA6-B144-EB7C3B35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4D6C-29CE-4EE2-89D5-98AC7AAA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29E8-0038-4ECA-9284-D11906E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71DB-A06A-4C2B-ACAF-90A1683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EDD5-A926-4F14-967E-848A51D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3BC-2779-4A95-A9C0-10C15AF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3DE0-50B9-4172-9378-2CE8D4F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5105-5079-4AE0-85A3-569FC36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CD9-736D-40E7-A854-D27B46D5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351E-62F2-497A-843D-750600C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733-C86D-454A-8CBB-715E966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64E3-C159-492C-9576-660F2F3F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2234-E96D-4F6A-B376-4E1053DE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860F-C071-40F9-95AB-07423BF3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CC52-93A3-453B-A69B-5981DA4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5A15-0E44-4F61-AEF7-D1F2F0B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160A-45DF-411D-9810-6B72B469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55A9-4CD8-4DE8-9313-830E7E07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6B00-5FA5-43EB-806F-51716E6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1DC-35D3-4EB1-8A0F-3246C417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E716-5040-427D-B127-D099741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2802-2E2A-40F6-B73D-F7DF081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C1BB-34E2-4304-997A-067F49A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CC74-A806-408F-8091-88AD520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4EAD-B2DB-43F5-A587-10DE3E3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8C19-D1B9-4F3E-95D4-A73EE7D0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1CAB-156E-4D93-8545-722741C0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DB3A-14AE-4A7C-AD44-7C6F2C48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6B8E-6DC6-42B6-92B6-DDCCE5A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24F4-16CC-4CFE-AC0C-C3A94E3F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400-62DD-4EB5-A11D-8295AE2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FADB-DBCA-44F6-B8E5-51B583E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04A2-06B4-4385-A8B6-C91BFAA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B1FC-ACC6-4748-8FE6-FC6BC51A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9BF9-AF8B-4248-BBDF-1D6EBD1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07A6-F5D7-4E56-9E1F-24FC97B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3FBE-E9E5-4E09-B540-68FC410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AAB8-E7EE-4F2D-A13B-F6345C8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DDB4-3315-4C5E-9224-F8A577A4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D381-65D4-44E9-A0FE-D466E4C8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5698-31B1-4009-845B-8CA37B4A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BCC-6A36-4C8E-B82D-21DD767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F6EF-D372-43B0-B2E7-BF80C06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09C0-2CD5-49BD-BE96-CB4F613B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A62F-EA9B-4BC2-B650-E9555239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932C-B760-4699-B745-2DDACF6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7D1A5-2ED1-4CF4-A0F3-B3D61F06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D5E91-404A-44FB-9863-5FFF93B4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0B44-EB2E-44B8-B06E-CEA5F5D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314ED-DBB1-4612-A59B-2557BA0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C7FFC-EEAA-4E14-A518-A5ABF118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92197-3E70-4624-B5A1-A28D17C0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554-7BC5-463C-8307-E7E71592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AD6DC-5994-4219-8C0F-069D772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9EF-E508-400D-89E3-966E01E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5D5-7CB1-4401-9F72-33E5904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9FE-8096-4B38-96C0-342812F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F52A-3325-4EAC-9848-D3F3688244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831-30C0-47C1-A84C-A94DBD8D6C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897-A3EC-4C15-B70A-ED592AB912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2847-23EF-4C37-B124-0ECD35EAAC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E6C4-0569-4BBC-A015-33050BB2BE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1714680" y="1214280"/>
            <a:ext cx="55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Простейшие 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642960" y="304920"/>
            <a:ext cx="664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8d3e"/>
                </a:solidFill>
                <a:latin typeface="Times New Roman"/>
              </a:rPr>
              <a:t>Решите неравенство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357200" y="928800"/>
                <a:ext cx="282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506600" y="2286000"/>
                <a:ext cx="2730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282600" y="3500280"/>
                <a:ext cx="8432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1428840" y="4071960"/>
                <a:ext cx="21812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5372280" y="5257800"/>
                <a:ext cx="3554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Прямоугольник 9"/>
          <p:cNvSpPr/>
          <p:nvPr/>
        </p:nvSpPr>
        <p:spPr>
          <a:xfrm>
            <a:off x="3356280" y="55008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3"/>
          <p:cNvSpPr/>
          <p:nvPr/>
        </p:nvSpPr>
        <p:spPr>
          <a:xfrm>
            <a:off x="2653200" y="28584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Решите не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785880" y="857160"/>
                <a:ext cx="26240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763560" y="2500200"/>
                <a:ext cx="838044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убыв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357200" y="3857760"/>
                <a:ext cx="1047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4929120" y="4857840"/>
                <a:ext cx="20718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Прямоугольник 8"/>
          <p:cNvSpPr/>
          <p:nvPr/>
        </p:nvSpPr>
        <p:spPr>
          <a:xfrm>
            <a:off x="2998800" y="514368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23232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1143000" y="990720"/>
                <a:ext cx="167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000080" y="2143080"/>
                <a:ext cx="1873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928800" y="2714760"/>
                <a:ext cx="7238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снование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1143000" y="3286080"/>
                <a:ext cx="1689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1143000" y="3857760"/>
                <a:ext cx="1701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857840" y="4714920"/>
                <a:ext cx="2349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Прямоугольник 9"/>
          <p:cNvSpPr/>
          <p:nvPr/>
        </p:nvSpPr>
        <p:spPr>
          <a:xfrm>
            <a:off x="2856240" y="500076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1"/>
          <p:cNvSpPr/>
          <p:nvPr/>
        </p:nvSpPr>
        <p:spPr>
          <a:xfrm>
            <a:off x="785880" y="49824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0"/>
              <p:cNvSpPr txBox="1"/>
              <p:nvPr/>
            </p:nvSpPr>
            <p:spPr>
              <a:xfrm>
                <a:off x="1571760" y="285840"/>
                <a:ext cx="6429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Rectangle 32"/>
          <p:cNvSpPr/>
          <p:nvPr/>
        </p:nvSpPr>
        <p:spPr>
          <a:xfrm>
            <a:off x="0" y="38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&gt;2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3"/>
              <p:cNvSpPr txBox="1"/>
              <p:nvPr/>
            </p:nvSpPr>
            <p:spPr>
              <a:xfrm>
                <a:off x="3429000" y="428760"/>
                <a:ext cx="1000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Прямоугольник 36"/>
          <p:cNvSpPr/>
          <p:nvPr/>
        </p:nvSpPr>
        <p:spPr>
          <a:xfrm>
            <a:off x="4506120" y="4287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7"/>
          <p:cNvSpPr/>
          <p:nvPr/>
        </p:nvSpPr>
        <p:spPr>
          <a:xfrm>
            <a:off x="932040" y="1357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5"/>
              <p:cNvSpPr txBox="1"/>
              <p:nvPr/>
            </p:nvSpPr>
            <p:spPr>
              <a:xfrm>
                <a:off x="1643040" y="1071720"/>
                <a:ext cx="170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7"/>
              <p:cNvSpPr txBox="1"/>
              <p:nvPr/>
            </p:nvSpPr>
            <p:spPr>
              <a:xfrm>
                <a:off x="3429000" y="1285920"/>
                <a:ext cx="3298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Прямоугольник 42"/>
          <p:cNvSpPr/>
          <p:nvPr/>
        </p:nvSpPr>
        <p:spPr>
          <a:xfrm>
            <a:off x="932400" y="2357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5"/>
          <p:cNvSpPr/>
          <p:nvPr/>
        </p:nvSpPr>
        <p:spPr>
          <a:xfrm>
            <a:off x="2720160" y="23572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1500120" y="23295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0,2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2"/>
              <p:cNvSpPr txBox="1"/>
              <p:nvPr/>
            </p:nvSpPr>
            <p:spPr>
              <a:xfrm>
                <a:off x="3500280" y="2428920"/>
                <a:ext cx="142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6"/>
          <p:cNvSpPr/>
          <p:nvPr/>
        </p:nvSpPr>
        <p:spPr>
          <a:xfrm>
            <a:off x="4929120" y="23594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2"/>
          <p:cNvSpPr/>
          <p:nvPr/>
        </p:nvSpPr>
        <p:spPr>
          <a:xfrm>
            <a:off x="1003680" y="31431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7"/>
              <p:cNvSpPr txBox="1"/>
              <p:nvPr/>
            </p:nvSpPr>
            <p:spPr>
              <a:xfrm>
                <a:off x="1643040" y="3000240"/>
                <a:ext cx="17431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9"/>
              <p:cNvSpPr txBox="1"/>
              <p:nvPr/>
            </p:nvSpPr>
            <p:spPr>
              <a:xfrm>
                <a:off x="3429000" y="3286080"/>
                <a:ext cx="2330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Прямоугольник 57"/>
          <p:cNvSpPr/>
          <p:nvPr/>
        </p:nvSpPr>
        <p:spPr>
          <a:xfrm>
            <a:off x="5643720" y="3214800"/>
            <a:ext cx="4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8"/>
          <p:cNvSpPr/>
          <p:nvPr/>
        </p:nvSpPr>
        <p:spPr>
          <a:xfrm>
            <a:off x="1003680" y="4071960"/>
            <a:ext cx="5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1"/>
              <p:cNvSpPr txBox="1"/>
              <p:nvPr/>
            </p:nvSpPr>
            <p:spPr>
              <a:xfrm>
                <a:off x="1714680" y="4071960"/>
                <a:ext cx="642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Прямоугольник 61"/>
          <p:cNvSpPr/>
          <p:nvPr/>
        </p:nvSpPr>
        <p:spPr>
          <a:xfrm>
            <a:off x="2432880" y="40719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53"/>
              <p:cNvSpPr txBox="1"/>
              <p:nvPr/>
            </p:nvSpPr>
            <p:spPr>
              <a:xfrm>
                <a:off x="2928960" y="4000680"/>
                <a:ext cx="71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5"/>
              <p:cNvSpPr txBox="1"/>
              <p:nvPr/>
            </p:nvSpPr>
            <p:spPr>
              <a:xfrm>
                <a:off x="3643200" y="4214880"/>
                <a:ext cx="12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Прямоугольник 66"/>
          <p:cNvSpPr/>
          <p:nvPr/>
        </p:nvSpPr>
        <p:spPr>
          <a:xfrm>
            <a:off x="4556160" y="421488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й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1157040" y="571680"/>
            <a:ext cx="38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˄ ˄ ˄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857160" y="2428920"/>
            <a:ext cx="7643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узна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график линейной функции - прямая линия"/>
          <p:cNvPicPr/>
          <p:nvPr/>
        </p:nvPicPr>
        <p:blipFill>
          <a:blip r:embed="rId2"/>
          <a:stretch/>
        </p:blipFill>
        <p:spPr>
          <a:xfrm>
            <a:off x="785880" y="2142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график квадратичной функции - парабола"/>
          <p:cNvPicPr/>
          <p:nvPr/>
        </p:nvPicPr>
        <p:blipFill>
          <a:blip r:embed="rId3"/>
          <a:stretch/>
        </p:blipFill>
        <p:spPr>
          <a:xfrm>
            <a:off x="3357720" y="214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график показательной функции - экспонента"/>
          <p:cNvPicPr/>
          <p:nvPr/>
        </p:nvPicPr>
        <p:blipFill>
          <a:blip r:embed="rId4"/>
          <a:stretch/>
        </p:blipFill>
        <p:spPr>
          <a:xfrm>
            <a:off x="5715000" y="214200"/>
            <a:ext cx="178596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график логарифмической функции - логарифмика"/>
          <p:cNvPicPr/>
          <p:nvPr/>
        </p:nvPicPr>
        <p:blipFill>
          <a:blip r:embed="rId5"/>
          <a:stretch/>
        </p:blipFill>
        <p:spPr>
          <a:xfrm>
            <a:off x="785880" y="2643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график обратной пропорциональности - гипербола"/>
          <p:cNvPicPr/>
          <p:nvPr/>
        </p:nvPicPr>
        <p:blipFill>
          <a:blip r:embed="rId6"/>
          <a:stretch/>
        </p:blipFill>
        <p:spPr>
          <a:xfrm>
            <a:off x="3429000" y="2643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график показательной функции - экспонента"/>
          <p:cNvPicPr/>
          <p:nvPr/>
        </p:nvPicPr>
        <p:blipFill>
          <a:blip r:embed="rId7"/>
          <a:stretch/>
        </p:blipFill>
        <p:spPr>
          <a:xfrm>
            <a:off x="5857920" y="2714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график кубическая парабола"/>
          <p:cNvPicPr/>
          <p:nvPr/>
        </p:nvPicPr>
        <p:blipFill>
          <a:blip r:embed="rId8"/>
          <a:stretch/>
        </p:blipFill>
        <p:spPr>
          <a:xfrm>
            <a:off x="4357800" y="471492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0"/>
          <p:cNvSpPr/>
          <p:nvPr/>
        </p:nvSpPr>
        <p:spPr>
          <a:xfrm>
            <a:off x="1646640" y="2214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146120" y="2143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575760" y="214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1717920" y="47862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3646080" y="464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7072200" y="47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6504120" y="635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64296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из перечисленных функций являются возрастающими, а какие убывающ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3571920" y="1714680"/>
                <a:ext cx="2386080" cy="10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3643200" y="2928960"/>
                <a:ext cx="31053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3714840" y="4143240"/>
                <a:ext cx="268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395280" y="692280"/>
            <a:ext cx="8497800" cy="151272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ahoma"/>
              </a:rPr>
              <a:t>Простейшие показательные не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0509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5643720" y="22860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640" y="2852640"/>
            <a:ext cx="3382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928960" y="4000680"/>
            <a:ext cx="5256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3" action="ppaction://hlinksldjump"/>
              </a:rPr>
              <a:t>Решение неравен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372240" y="2142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Определения</a:t>
            </a: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981000"/>
            <a:ext cx="8362800" cy="359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ьные неравенства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</a:t>
            </a:r>
            <a:br>
              <a:rPr sz="3600"/>
            </a:b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это неравенства, в которых неизвестное содержится в показателе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0200" y="52149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4357800" y="5143680"/>
                <a:ext cx="136980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6"/>
          <p:cNvGraphicFramePr/>
          <p:nvPr/>
        </p:nvGraphicFramePr>
        <p:xfrm>
          <a:off x="6286680" y="4857840"/>
          <a:ext cx="241776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4857840"/>
                    <a:ext cx="24177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8"/>
          <p:cNvSpPr/>
          <p:nvPr/>
        </p:nvSpPr>
        <p:spPr>
          <a:xfrm>
            <a:off x="4364280" y="32868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4287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8542"/>
                </a:solidFill>
                <a:latin typeface="Verdana"/>
              </a:rPr>
              <a:t>Простейшие показательные неравенства – это неравенства вид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00080" y="150012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1000080" y="228600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Line 12"/>
          <p:cNvSpPr/>
          <p:nvPr/>
        </p:nvSpPr>
        <p:spPr>
          <a:xfrm>
            <a:off x="3857760" y="1785960"/>
            <a:ext cx="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4643280" y="1643040"/>
                <a:ext cx="2305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714920" y="2428920"/>
                <a:ext cx="21906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13"/>
          <p:cNvSpPr/>
          <p:nvPr/>
        </p:nvSpPr>
        <p:spPr>
          <a:xfrm>
            <a:off x="928800" y="533808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де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&gt; 0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1102680" y="3143160"/>
            <a:ext cx="16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2"/>
          <p:cNvSpPr/>
          <p:nvPr/>
        </p:nvSpPr>
        <p:spPr>
          <a:xfrm>
            <a:off x="1785960" y="42148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3"/>
          <p:cNvSpPr/>
          <p:nvPr/>
        </p:nvSpPr>
        <p:spPr>
          <a:xfrm>
            <a:off x="1275480" y="4000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4"/>
          <p:cNvSpPr/>
          <p:nvPr/>
        </p:nvSpPr>
        <p:spPr>
          <a:xfrm>
            <a:off x="4786200" y="3286080"/>
            <a:ext cx="26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4960440" y="4071960"/>
            <a:ext cx="18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rcRect l="11002" t="22000" r="32004" b="9998"/>
          <a:stretch/>
        </p:blipFill>
        <p:spPr>
          <a:xfrm>
            <a:off x="1071720" y="1285920"/>
            <a:ext cx="3541680" cy="316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/>
          <p:cNvPicPr/>
          <p:nvPr/>
        </p:nvPicPr>
        <p:blipFill>
          <a:blip r:embed="rId3"/>
          <a:srcRect l="45000" t="26000" r="0" b="8669"/>
          <a:stretch/>
        </p:blipFill>
        <p:spPr>
          <a:xfrm>
            <a:off x="5000760" y="1143000"/>
            <a:ext cx="3500280" cy="31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Object 25"/>
              <p:cNvSpPr txBox="1"/>
              <p:nvPr/>
            </p:nvSpPr>
            <p:spPr>
              <a:xfrm>
                <a:off x="2428920" y="4429080"/>
                <a:ext cx="1993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6"/>
              <p:cNvSpPr txBox="1"/>
              <p:nvPr/>
            </p:nvSpPr>
            <p:spPr>
              <a:xfrm>
                <a:off x="2571840" y="528624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3286080" y="357120"/>
                <a:ext cx="2038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7"/>
              <p:cNvSpPr txBox="1"/>
              <p:nvPr/>
            </p:nvSpPr>
            <p:spPr>
              <a:xfrm>
                <a:off x="6215040" y="4286160"/>
                <a:ext cx="1994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8"/>
              <p:cNvSpPr txBox="1"/>
              <p:nvPr/>
            </p:nvSpPr>
            <p:spPr>
              <a:xfrm>
                <a:off x="6500880" y="514368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2"/>
          <p:cNvSpPr/>
          <p:nvPr/>
        </p:nvSpPr>
        <p:spPr>
          <a:xfrm>
            <a:off x="500040" y="35712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 решении </a:t>
            </a:r>
            <a:r>
              <a:rPr b="1" i="1" lang="ru-RU" sz="3200" spc="-1" strike="noStrike">
                <a:solidFill>
                  <a:srgbClr val="1b587c"/>
                </a:solidFill>
                <a:latin typeface="Arial"/>
              </a:rPr>
              <a:t>простейших</a:t>
            </a:r>
            <a:r>
              <a:rPr b="0" i="1" lang="ru-RU" sz="32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равенств используют свойства возрастания или убывания показатель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2571840" y="2214720"/>
                <a:ext cx="49608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4"/>
              <p:cNvSpPr txBox="1"/>
              <p:nvPr/>
            </p:nvSpPr>
            <p:spPr>
              <a:xfrm>
                <a:off x="2714760" y="4714920"/>
                <a:ext cx="52117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571680" y="428760"/>
            <a:ext cx="814356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шения простейших показательных неравенств и неравенств, приводимых к простей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23232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.Уравнивание оснований правой и левой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2. Вынесением общего множителя за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3. Делением обеих частей неравенства на одну из степе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2:27:35Z</dcterms:created>
  <dc:creator>admin</dc:creator>
  <dc:description/>
  <dc:language>en-US</dc:language>
  <cp:lastModifiedBy>Любовь</cp:lastModifiedBy>
  <dcterms:modified xsi:type="dcterms:W3CDTF">2021-11-27T19:19:50Z</dcterms:modified>
  <cp:revision>108</cp:revision>
  <dc:subject/>
  <dc:title>Показательные уравнения</dc:title>
</cp:coreProperties>
</file>